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png" ContentType="image/png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99DD-B5D5-49E2-8CB6-7EAA069D4CC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 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ryp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ity of Ore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ersey.uoregon.edu/vlab/elements/Element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et of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spectrum of each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Ore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jersey.uoregon.edu/vlab/elements/Element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t of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pectrum of each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 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State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nomy.ohiostate.edu/~pogge/Ast350/Labs/Lamps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io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state.edu/~pogge/Ast350/Labs/Lamp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 Zalewski  Jan.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 Zalewski  Jan.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 Line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Line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 of several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 of sever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hydrogen absorption lines appear against a continuous visual spectrum, the light in the spectrum absorbed by intervening hydrogen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"Astronomy! A Brief Edition," J. B. Kaler, Addison-Wesley, 19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hydrogen absorption lines appear against a continuous visual spectrum, the light in the spectrum absorbed by intervening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"Astronomy! A Brief Edition," J. B. Kaler, Addison-Wesley, 1997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s of various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of various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D935-5930-4E29-B62D-6861F03E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224-EF9B-4EB4-A7EE-D19777EB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5AB-E908-4BEE-915A-A8F012D1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8B27-FF00-4FDE-A018-FCE6E3A6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DA61-FCB5-473B-960E-6F70E81C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9FA2-6B55-462E-A708-7D8E2B8D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486A-4BBC-4C20-85AC-0C03FADA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2717-D186-42D4-9814-38BA48CD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36C4-1083-4730-B4E9-04E92839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709B-5644-4A74-A3F7-4C29EEFE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5C9F-C54B-468F-B09A-0BC27141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CF3-D02E-4585-B91A-2FD6E07D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1A81-4896-48E0-97D9-7C7E1C83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B8DD-FFE7-46DC-88D2-64F54460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C810-7F4B-4822-832B-99500E7B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4C57-F91F-4DB1-94EA-A7C35742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D741-940F-4EDC-9472-D4ABD538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1DE3-E0E2-4FBB-958A-F19658B5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0912-459D-402A-B06A-0BDFFBCD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5F5-1ECB-4B0D-B056-0AFA8472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5A0-78B4-49F0-85BF-CC0607B8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7BA-2E0D-4F72-A405-50D4D9CA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635-6211-4F9C-9595-88AD9240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E5EA-D339-4DA8-A1E3-E7E5B13A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Group 3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ission  Spec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j0239005"/>
          <p:cNvPicPr/>
          <p:nvPr/>
        </p:nvPicPr>
        <p:blipFill>
          <a:blip r:embed="rId1"/>
          <a:stretch/>
        </p:blipFill>
        <p:spPr>
          <a:xfrm>
            <a:off x="1295280" y="4191120"/>
            <a:ext cx="1803600" cy="15494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balmer spectra"/>
          <p:cNvPicPr/>
          <p:nvPr/>
        </p:nvPicPr>
        <p:blipFill>
          <a:blip r:embed="rId1"/>
          <a:stretch/>
        </p:blipFill>
        <p:spPr>
          <a:xfrm>
            <a:off x="838080" y="3276720"/>
            <a:ext cx="7315200" cy="280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pec-hydrogen"/>
          <p:cNvPicPr/>
          <p:nvPr/>
        </p:nvPicPr>
        <p:blipFill>
          <a:blip r:embed="rId2"/>
          <a:stretch/>
        </p:blipFill>
        <p:spPr>
          <a:xfrm>
            <a:off x="762120" y="2362320"/>
            <a:ext cx="7467480" cy="6094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3962520" y="5638680"/>
            <a:ext cx="13716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666880" y="2057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858000" y="2057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ryp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spec-krypton"/>
          <p:cNvPicPr/>
          <p:nvPr/>
        </p:nvPicPr>
        <p:blipFill>
          <a:blip r:embed="rId1"/>
          <a:stretch/>
        </p:blipFill>
        <p:spPr>
          <a:xfrm>
            <a:off x="762120" y="2286000"/>
            <a:ext cx="7467480" cy="609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tube-krypton"/>
          <p:cNvPicPr/>
          <p:nvPr/>
        </p:nvPicPr>
        <p:blipFill>
          <a:blip r:embed="rId2"/>
          <a:stretch/>
        </p:blipFill>
        <p:spPr>
          <a:xfrm>
            <a:off x="3429000" y="3962520"/>
            <a:ext cx="2316240" cy="17413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tube-neon"/>
          <p:cNvPicPr/>
          <p:nvPr/>
        </p:nvPicPr>
        <p:blipFill>
          <a:blip r:embed="rId1"/>
          <a:stretch/>
        </p:blipFill>
        <p:spPr>
          <a:xfrm>
            <a:off x="3733920" y="4343400"/>
            <a:ext cx="1554120" cy="1168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spec-neon"/>
          <p:cNvPicPr/>
          <p:nvPr/>
        </p:nvPicPr>
        <p:blipFill>
          <a:blip r:embed="rId2"/>
          <a:stretch/>
        </p:blipFill>
        <p:spPr>
          <a:xfrm>
            <a:off x="838080" y="2743200"/>
            <a:ext cx="7467840" cy="609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1752480" y="2438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800100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en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tube-xenon"/>
          <p:cNvPicPr/>
          <p:nvPr/>
        </p:nvPicPr>
        <p:blipFill>
          <a:blip r:embed="rId1"/>
          <a:stretch/>
        </p:blipFill>
        <p:spPr>
          <a:xfrm>
            <a:off x="3505320" y="3962520"/>
            <a:ext cx="2315880" cy="1741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spec-xenon"/>
          <p:cNvPicPr/>
          <p:nvPr/>
        </p:nvPicPr>
        <p:blipFill>
          <a:blip r:embed="rId2"/>
          <a:stretch/>
        </p:blipFill>
        <p:spPr>
          <a:xfrm>
            <a:off x="838080" y="2666880"/>
            <a:ext cx="7467840" cy="6098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water vapor3"/>
          <p:cNvPicPr/>
          <p:nvPr/>
        </p:nvPicPr>
        <p:blipFill>
          <a:blip r:embed="rId1"/>
          <a:stretch/>
        </p:blipFill>
        <p:spPr>
          <a:xfrm>
            <a:off x="1676520" y="2133720"/>
            <a:ext cx="6476760" cy="43005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304920" y="617220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533520" y="60958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38880" y="2514600"/>
            <a:ext cx="114300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watervapor"/>
          <p:cNvPicPr/>
          <p:nvPr/>
        </p:nvPicPr>
        <p:blipFill>
          <a:blip r:embed="rId1"/>
          <a:stretch/>
        </p:blipFill>
        <p:spPr>
          <a:xfrm>
            <a:off x="2666880" y="2286000"/>
            <a:ext cx="6096240" cy="4295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45720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4572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ity of Ore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92240" y="3208320"/>
            <a:ext cx="6680160" cy="12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jersey.uoregon.edu/vlab/elements/Element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127680" y="4724280"/>
            <a:ext cx="32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t of Periodic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spectrum of each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2971800"/>
            <a:ext cx="7505640" cy="17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io Stat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stronomy.ohiostate.edu/~pogge/Ast350/Labs/Lamps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4724280" y="3429000"/>
            <a:ext cx="37339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96" name="Picture 5" descr="j0354516"/>
          <p:cNvPicPr/>
          <p:nvPr/>
        </p:nvPicPr>
        <p:blipFill>
          <a:blip r:embed="rId1"/>
          <a:stretch/>
        </p:blipFill>
        <p:spPr>
          <a:xfrm>
            <a:off x="838080" y="1828800"/>
            <a:ext cx="1143000" cy="10396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762120" y="6095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n Zalewski  Jan.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EMSpec"/>
          <p:cNvPicPr/>
          <p:nvPr/>
        </p:nvPicPr>
        <p:blipFill>
          <a:blip r:embed="rId1"/>
          <a:stretch/>
        </p:blipFill>
        <p:spPr>
          <a:xfrm>
            <a:off x="152280" y="1814400"/>
            <a:ext cx="8839440" cy="436248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5562720" y="1600200"/>
            <a:ext cx="16761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3809520" y="1600200"/>
            <a:ext cx="1752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52280" y="4191120"/>
            <a:ext cx="8839440" cy="1981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819520" y="1371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46748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magnetic  Spect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spectrum4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52815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52280" y="6491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8001000" y="6491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ght Line Spec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spectra-lines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660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tra of several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spectra-composit"/>
          <p:cNvPicPr/>
          <p:nvPr/>
        </p:nvPicPr>
        <p:blipFill>
          <a:blip r:embed="rId1"/>
          <a:stretch/>
        </p:blipFill>
        <p:spPr>
          <a:xfrm>
            <a:off x="762120" y="1066680"/>
            <a:ext cx="7848360" cy="5069160"/>
          </a:xfrm>
          <a:prstGeom prst="rect">
            <a:avLst/>
          </a:prstGeom>
          <a:ln w="0">
            <a:noFill/>
          </a:ln>
        </p:spPr>
      </p:pic>
      <p:sp>
        <p:nvSpPr>
          <p:cNvPr id="145" name="Line 5"/>
          <p:cNvSpPr/>
          <p:nvPr/>
        </p:nvSpPr>
        <p:spPr>
          <a:xfrm>
            <a:off x="5410080" y="6400800"/>
            <a:ext cx="2438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6"/>
          <p:cNvSpPr/>
          <p:nvPr/>
        </p:nvSpPr>
        <p:spPr>
          <a:xfrm flipH="1">
            <a:off x="2209680" y="6400800"/>
            <a:ext cx="2819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drog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sorption lines appear against a continuous visual spectrum, the light in the spectrum absorbed by intervening hydrogen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absorption"/>
          <p:cNvPicPr/>
          <p:nvPr/>
        </p:nvPicPr>
        <p:blipFill>
          <a:blip r:embed="rId1"/>
          <a:stretch/>
        </p:blipFill>
        <p:spPr>
          <a:xfrm>
            <a:off x="152280" y="3886200"/>
            <a:ext cx="8763120" cy="24382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828800" y="618804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From "Astronomy! A Brief Edition," J. B. Kaler, Addison-Wesley, 199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rs of various g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tube-argon"/>
          <p:cNvPicPr/>
          <p:nvPr/>
        </p:nvPicPr>
        <p:blipFill>
          <a:blip r:embed="rId1"/>
          <a:stretch/>
        </p:blipFill>
        <p:spPr>
          <a:xfrm>
            <a:off x="533520" y="2362320"/>
            <a:ext cx="2239920" cy="168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tube-helium"/>
          <p:cNvPicPr/>
          <p:nvPr/>
        </p:nvPicPr>
        <p:blipFill>
          <a:blip r:embed="rId2"/>
          <a:stretch/>
        </p:blipFill>
        <p:spPr>
          <a:xfrm>
            <a:off x="3505320" y="2362320"/>
            <a:ext cx="2209680" cy="1663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tube-krypton"/>
          <p:cNvPicPr/>
          <p:nvPr/>
        </p:nvPicPr>
        <p:blipFill>
          <a:blip r:embed="rId3"/>
          <a:stretch/>
        </p:blipFill>
        <p:spPr>
          <a:xfrm>
            <a:off x="6248520" y="2362320"/>
            <a:ext cx="2133360" cy="160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tube-neon"/>
          <p:cNvPicPr/>
          <p:nvPr/>
        </p:nvPicPr>
        <p:blipFill>
          <a:blip r:embed="rId4"/>
          <a:stretch/>
        </p:blipFill>
        <p:spPr>
          <a:xfrm>
            <a:off x="1523880" y="4495680"/>
            <a:ext cx="2286000" cy="1720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tube-xenon"/>
          <p:cNvPicPr/>
          <p:nvPr/>
        </p:nvPicPr>
        <p:blipFill>
          <a:blip r:embed="rId5"/>
          <a:stretch/>
        </p:blipFill>
        <p:spPr>
          <a:xfrm>
            <a:off x="4800600" y="4419720"/>
            <a:ext cx="2286000" cy="17190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spec-argon"/>
          <p:cNvPicPr/>
          <p:nvPr/>
        </p:nvPicPr>
        <p:blipFill>
          <a:blip r:embed="rId1"/>
          <a:stretch/>
        </p:blipFill>
        <p:spPr>
          <a:xfrm>
            <a:off x="838080" y="3124080"/>
            <a:ext cx="7467840" cy="609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tube-argon"/>
          <p:cNvPicPr/>
          <p:nvPr/>
        </p:nvPicPr>
        <p:blipFill>
          <a:blip r:embed="rId2"/>
          <a:stretch/>
        </p:blipFill>
        <p:spPr>
          <a:xfrm>
            <a:off x="3276720" y="4267080"/>
            <a:ext cx="2239920" cy="1684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tube-helium"/>
          <p:cNvPicPr/>
          <p:nvPr/>
        </p:nvPicPr>
        <p:blipFill>
          <a:blip r:embed="rId1"/>
          <a:stretch/>
        </p:blipFill>
        <p:spPr>
          <a:xfrm>
            <a:off x="3429000" y="4191120"/>
            <a:ext cx="2209680" cy="1663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spec-helium"/>
          <p:cNvPicPr/>
          <p:nvPr/>
        </p:nvPicPr>
        <p:blipFill>
          <a:blip r:embed="rId2"/>
          <a:stretch/>
        </p:blipFill>
        <p:spPr>
          <a:xfrm>
            <a:off x="762120" y="2971800"/>
            <a:ext cx="7467480" cy="6094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5181480" y="2666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9:45:16Z</dcterms:created>
  <dc:creator>Ben Zalewski</dc:creator>
  <dc:description/>
  <dc:language>en-US</dc:language>
  <cp:lastModifiedBy>RomaK</cp:lastModifiedBy>
  <dcterms:modified xsi:type="dcterms:W3CDTF">2015-09-03T12:25:22Z</dcterms:modified>
  <cp:revision>25</cp:revision>
  <dc:subject/>
  <dc:title>Slide 1</dc:title>
</cp:coreProperties>
</file>